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EA1-39E2-4A09-BEED-1AC6276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608-5AF8-4A30-9030-36F1676B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CC3-E035-4C0C-A3A2-85CAEA94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135-DECA-48F8-A0EF-F35A552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157-87EA-478A-807F-DECE281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C86-9511-41AE-BA97-F442347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555-C1C0-4FDC-B6A1-A7C0787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8A2-8FEC-4DFD-B920-57827B2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03F-173A-4F80-9E33-C40B8E0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E6F-E0E0-4B21-8A51-9676E6C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628-5014-4FA5-8BD5-12D2E4C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BD2-1DE3-4359-ACE7-8C738E9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FB0-6982-4A2F-9FF5-85D269D3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KTM0xOwrLT0/RpuasDmCdgI/AAAAAAAAEOU/lXq99F8AKfM/s320/oedipus.gif&amp;imgrefurl=http://readingcatalogue.blogspot.com/2007_07_01_archive.html&amp;usg=__fnpjbYqx5-p65HTxtSmX_HvRcOw=&amp;h=320&amp;w=319&amp;sz=217&amp;hl=en&amp;start=65&amp;um=1&amp;itbs=1&amp;tbnid=aOnXOiWBQMTblM:&amp;tbnh=118&amp;tbnw=118&amp;prev=/images%3Fq%3Doedipus%2Brex%26ndsp%3D20%26hl%3Den%26safe%3Dstrict%26sa%3DN%26start%3D60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classicalarchives.com/images/coverart/3/5/5/1/723723605221_300.jpg&amp;imgrefurl=http://www.classicalarchives.com/album/723723605221.html&amp;usg=__GpBAYT6IM65HeSNSebE84fckQFI=&amp;h=300&amp;w=300&amp;sz=21&amp;hl=en&amp;start=64&amp;um=1&amp;itbs=1&amp;tbnid=jPJx8SW_vatkFM:&amp;tbnh=116&amp;tbnw=116&amp;prev=/images%3Fq%3Doedipus%2Brex%26ndsp%3D20%26hl%3Den%26safe%3Dstrict%26sa%3DN%26start%3D60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eaglerockstage.com/images/oedipus/OR_Poster_large.jpg&amp;imgrefurl=http://www.eaglerockstage.com/&amp;usg=__9KeZEFW4ne1k-6TzneXV4kjLwhg=&amp;h=647&amp;w=485&amp;sz=419&amp;hl=en&amp;start=79&amp;um=1&amp;itbs=1&amp;tbnid=-Ftap34901MOkM:&amp;tbnh=137&amp;tbnw=103&amp;prev=/images%3Fq%3Doedipus%2Brex%26ndsp%3D20%26hl%3Den%26safe%3Dstrict%26sa%3DN%26start%3D60%26um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lovemoderately.files.wordpress.com/2008/02/14.jpg&amp;imgrefurl=http://lovemoderately.wordpress.com/2008/02/&amp;usg=__HG1dgfLQXIjVGdNQ0ZzAP7IOECg=&amp;h=530&amp;w=400&amp;sz=55&amp;hl=en&amp;start=78&amp;um=1&amp;itbs=1&amp;tbnid=BOUnU9ae0MUk7M:&amp;tbnh=132&amp;tbnw=100&amp;prev=/images%3Fq%3Doedipus%2Brex%26ndsp%3D20%26hl%3Den%26safe%3Dstrict%26sa%3DN%26start%3D60%26um%3D1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brookspeters.com/wp-content/uploads/2009/06/f6.jpg&amp;imgrefurl=http://www.brookspeters.com/category/faves/&amp;usg=__8rDjDyOtpI6gQNkrU_572A-4rIE=&amp;h=390&amp;w=420&amp;sz=35&amp;hl=en&amp;start=102&amp;um=1&amp;itbs=1&amp;tbnid=_bBZv_qo9-KoRM:&amp;tbnh=116&amp;tbnw=125&amp;prev=/images%3Fq%3Doedipus%2Brex%26ndsp%3D20%26hl%3Den%26safe%3Dstrict%26sa%3DN%26start%3D100%26um%3D1" TargetMode="Externa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c.sad57.k12.me.us/~Abigail_Asciola/00598B79-00870BAD.0/bloodyeyes.jpg&amp;imgrefurl=http://fc.sad57.k12.me.us/~Abigail_Asciola/Oedipus%2520the%2520King%2520Web%2520Page&amp;usg=__efCFWlUMI1CnmwMR1uzmdQty1mg=&amp;h=446&amp;w=650&amp;sz=213&amp;hl=en&amp;start=1&amp;um=1&amp;itbs=1&amp;tbnid=hHrT0TEeY_8ESM:&amp;tbnh=94&amp;tbnw=137&amp;prev=/images%3Fq%3Doedipus%2Brex%26hl%3Den%26safe%3Dstrict%26sa%3DN%26um%3D1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deviantart.com/download/139255696/Oedipus_Rex_by_RYE_BREAD.jpg&amp;imgrefurl=http://rye-bread.deviantart.com/art/Oedipus-Rex-139255696&amp;usg=__olso9or5aJG_BGeCXnKmmhzxH_8=&amp;h=1020&amp;w=680&amp;sz=500&amp;hl=en&amp;start=39&amp;um=1&amp;itbs=1&amp;tbnid=oWkbg2za80AkcM:&amp;tbnh=150&amp;tbnw=100&amp;prev=/images%3Fq%3Doedipus%2Brex%26ndsp%3D20%26hl%3Den%26safe%3Dstrict%26sa%3DN%26start%3D20%26um%3D1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anyworld.files.wordpress.com/2007/04/oedipus.jpg&amp;imgrefurl=http://anyworld.wordpress.com/2007/04/17/im-a-bookkeepers-son-i-dont-wanna-hurt-no-one/&amp;usg=__RFyMTLdzjvun3sRCPs0QeNHjprw=&amp;h=869&amp;w=483&amp;sz=35&amp;hl=en&amp;start=40&amp;um=1&amp;itbs=1&amp;tbnid=7dqP18K-6XJIwM:&amp;tbnh=145&amp;tbnw=81&amp;prev=/images%3Fq%3Doedipus%2Brex%26ndsp%3D20%26hl%3Den%26safe%3Dstrict%26sa%3DN%26start%3D20%26um%3D1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img.amazon.ca/images/I/51AZ8KVW0VL._SL500_AA240_.jpg&amp;imgrefurl=http://www.amazon.ca/Oedipus-Rex-Widescreen-Douglas-Campbell/dp/B00006674E&amp;usg=__7BqAuM__wSWKroFdmKSnC1Dey4U=&amp;h=240&amp;w=240&amp;sz=17&amp;hl=en&amp;start=33&amp;um=1&amp;itbs=1&amp;tbnid=Ps5vn8HlG26K2M:&amp;tbnh=110&amp;tbnw=110&amp;prev=/images%3Fq%3Doedipus%2Brex%26ndsp%3D20%26hl%3Den%26safe%3Dstrict%26sa%3DN%26start%3D20%26um%3D1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moviegoods.com/Assets/product_images/1020/322277.1020.A.jpg&amp;imgrefurl=http://www.moviegoods.com/movie_poster/oedipus_rex_1957.htm&amp;usg=__Hz0fkxqc_x4MPx9iQ7f4NqZlzOY=&amp;h=454&amp;w=580&amp;sz=53&amp;hl=en&amp;start=26&amp;um=1&amp;itbs=1&amp;tbnid=NFz4m5cNQTgb8M:&amp;tbnh=105&amp;tbnw=134&amp;prev=/images%3Fq%3Doedipus%2Brex%26ndsp%3D20%26hl%3Den%26safe%3Dstrict%26sa%3DN%26start%3D20%26um%3D1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assicalwainui.files.wordpress.com/2009/05/oedipus.jpg&amp;imgrefurl=http://classicalwainui.wordpress.com/2009/05/03/oedipus-rex-prologos/&amp;usg=__XtprLL7Hnbt97Th34ZEIGrxLPMk=&amp;h=525&amp;w=400&amp;sz=26&amp;hl=en&amp;start=44&amp;um=1&amp;itbs=1&amp;tbnid=IciNEBAclp0rWM:&amp;tbnh=132&amp;tbnw=101&amp;prev=/images%3Fq%3Doedipus%2Brex%26ndsp%3D20%26hl%3Den%26safe%3Dstrict%26sa%3DN%26start%3D40%26um%3D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newarttheatre.com/images/post_OedipusRex_lg.jpg&amp;imgrefurl=http://www.newarttheatre.com/abo_pastproductions.asp&amp;usg=__rwjD5kP60k7XX4NqfZcbxfyVpR4=&amp;h=542&amp;w=350&amp;sz=57&amp;hl=en&amp;start=54&amp;um=1&amp;itbs=1&amp;tbnid=Xp-wwwQGkHF7KM:&amp;tbnh=132&amp;tbnw=85&amp;prev=/images%3Fq%3Doedipus%2Brex%26ndsp%3D20%26hl%3Den%26safe%3Dstrict%26sa%3DN%26start%3D40%26um%3D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m/imgres?imgurl=http://upload.wikimedia.org/wikipedia/commons/3/30/Oedipus_And_The_Sphinx_-_Project_Gutenberg_eText_14994.png&amp;imgrefurl=http://neutralpoliticalanxiety.blogspot.com/2008_10_01_archive.html&amp;usg=__zL8ximCvyviCnSJxS3Ko3VQYOmQ=&amp;h=314&amp;w=480&amp;sz=16&amp;hl=en&amp;start=58&amp;um=1&amp;itbs=1&amp;tbnid=sOlKJI8YPXdJoM:&amp;tbnh=84&amp;tbnw=129&amp;prev=/images%3Fq%3Doedipus%2Brex%26ndsp%3D20%26hl%3Den%26safe%3Dstrict%26sa%3DN%26start%3D40%26um%3D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static.guim.co.uk/Guardian/culture/gallery/2008/oct/14/theatre/edinburgh-1394.jpg&amp;imgrefurl=http://www.guardian.co.uk/stage/gallery/2008/oct/15/oedipus-national-theatre-ralph-fiennes%3Fpicture%3D338596305&amp;usg=__erQNCxAqf-mrmch5vDpbYHA8Lxk=&amp;h=450&amp;w=301&amp;sz=40&amp;hl=en&amp;start=60&amp;um=1&amp;itbs=1&amp;tbnid=JJaNXMRgAOBsSM:&amp;tbnh=127&amp;tbnw=85&amp;prev=/images%3Fq%3Doedipus%2Brex%26ndsp%3D20%26hl%3Den%26safe%3Dstrict%26sa%3DN%26start%3D40%26um%3D1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m/imgres?imgurl=http://img.amazon.ca/images/I/51rF63dQNcL._SL500_AA240_.jpg&amp;imgrefurl=http://www.amazon.ca/Oedipus-Rex-Philip-Langridge/dp/B00092ZAOK&amp;usg=__xu-bxdYjSa_6pBzIOflbYgf7yZw=&amp;h=240&amp;w=240&amp;sz=15&amp;hl=en&amp;start=61&amp;um=1&amp;itbs=1&amp;tbnid=a9KKqgAFfS6dUM:&amp;tbnh=110&amp;tbnw=110&amp;prev=/images%3Fq%3Doedipus%2Brex%26ndsp%3D20%26hl%3Den%26safe%3Dstrict%26sa%3DN%26start%3D60%26um%3D1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cient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asks-3d-large"/>
          <p:cNvPicPr/>
          <p:nvPr/>
        </p:nvPicPr>
        <p:blipFill>
          <a:blip r:embed="rId1"/>
          <a:stretch/>
        </p:blipFill>
        <p:spPr>
          <a:xfrm>
            <a:off x="1600200" y="1371600"/>
            <a:ext cx="5715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px-Sophocles"/>
          <p:cNvPicPr/>
          <p:nvPr/>
        </p:nvPicPr>
        <p:blipFill>
          <a:blip r:embed="rId1"/>
          <a:stretch/>
        </p:blipFill>
        <p:spPr>
          <a:xfrm>
            <a:off x="1219320" y="971640"/>
            <a:ext cx="6367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oedip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723723605221_300">
            <a:hlinkClick r:id="rId3"/>
          </p:cNvPr>
          <p:cNvPicPr/>
          <p:nvPr/>
        </p:nvPicPr>
        <p:blipFill>
          <a:blip r:embed="rId4"/>
          <a:stretch/>
        </p:blipFill>
        <p:spPr>
          <a:xfrm rot="20124600">
            <a:off x="-228600" y="-228240"/>
            <a:ext cx="234000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OR_Poster_large">
            <a:hlinkClick r:id="rId5"/>
          </p:cNvPr>
          <p:cNvPicPr/>
          <p:nvPr/>
        </p:nvPicPr>
        <p:blipFill>
          <a:blip r:embed="rId6"/>
          <a:stretch/>
        </p:blipFill>
        <p:spPr>
          <a:xfrm rot="1301400">
            <a:off x="6248160" y="380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14">
            <a:hlinkClick r:id="rId7"/>
          </p:cNvPr>
          <p:cNvPicPr/>
          <p:nvPr/>
        </p:nvPicPr>
        <p:blipFill>
          <a:blip r:embed="rId8"/>
          <a:stretch/>
        </p:blipFill>
        <p:spPr>
          <a:xfrm rot="19048200">
            <a:off x="604800" y="4130280"/>
            <a:ext cx="1981080" cy="222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f6">
            <a:hlinkClick r:id="rId9"/>
          </p:cNvPr>
          <p:cNvPicPr/>
          <p:nvPr/>
        </p:nvPicPr>
        <p:blipFill>
          <a:blip r:embed="rId10"/>
          <a:stretch/>
        </p:blipFill>
        <p:spPr>
          <a:xfrm rot="1983000">
            <a:off x="6229080" y="4044960"/>
            <a:ext cx="19098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pfhHrT0TEeY_8ESM:" descr="bloodyey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Oedipus_Rex_by_RYE_BREAD">
            <a:hlinkClick r:id="rId3"/>
          </p:cNvPr>
          <p:cNvPicPr/>
          <p:nvPr/>
        </p:nvPicPr>
        <p:blipFill>
          <a:blip r:embed="rId4"/>
          <a:stretch/>
        </p:blipFill>
        <p:spPr>
          <a:xfrm rot="20218200">
            <a:off x="240840" y="498600"/>
            <a:ext cx="23353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oedipus">
            <a:hlinkClick r:id="rId5"/>
          </p:cNvPr>
          <p:cNvPicPr/>
          <p:nvPr/>
        </p:nvPicPr>
        <p:blipFill>
          <a:blip r:embed="rId6"/>
          <a:stretch/>
        </p:blipFill>
        <p:spPr>
          <a:xfrm rot="1489800">
            <a:off x="6629040" y="304920"/>
            <a:ext cx="2089080" cy="373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51AZ8KVW0VL">
            <a:hlinkClick r:id="rId7"/>
          </p:cNvPr>
          <p:cNvPicPr/>
          <p:nvPr/>
        </p:nvPicPr>
        <p:blipFill>
          <a:blip r:embed="rId8"/>
          <a:stretch/>
        </p:blipFill>
        <p:spPr>
          <a:xfrm rot="18551400">
            <a:off x="772920" y="443844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322277">
            <a:hlinkClick r:id="rId9"/>
          </p:cNvPr>
          <p:cNvPicPr/>
          <p:nvPr/>
        </p:nvPicPr>
        <p:blipFill>
          <a:blip r:embed="rId10"/>
          <a:stretch/>
        </p:blipFill>
        <p:spPr>
          <a:xfrm rot="1275000">
            <a:off x="6248160" y="4572000"/>
            <a:ext cx="2717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oedip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ost_OedipusRex_lg">
            <a:hlinkClick r:id="rId3"/>
          </p:cNvPr>
          <p:cNvPicPr/>
          <p:nvPr/>
        </p:nvPicPr>
        <p:blipFill>
          <a:blip r:embed="rId4"/>
          <a:stretch/>
        </p:blipFill>
        <p:spPr>
          <a:xfrm rot="19734600">
            <a:off x="685800" y="228240"/>
            <a:ext cx="2892600" cy="2697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Oedipus_And_The_Sphinx_-_Project_Gutenberg_eText_14994">
            <a:hlinkClick r:id="rId5"/>
          </p:cNvPr>
          <p:cNvPicPr/>
          <p:nvPr/>
        </p:nvPicPr>
        <p:blipFill>
          <a:blip r:embed="rId6"/>
          <a:stretch/>
        </p:blipFill>
        <p:spPr>
          <a:xfrm rot="808800">
            <a:off x="6298920" y="393480"/>
            <a:ext cx="290988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edinburgh-1394">
            <a:hlinkClick r:id="rId7"/>
          </p:cNvPr>
          <p:cNvPicPr/>
          <p:nvPr/>
        </p:nvPicPr>
        <p:blipFill>
          <a:blip r:embed="rId8"/>
          <a:stretch/>
        </p:blipFill>
        <p:spPr>
          <a:xfrm rot="19860600">
            <a:off x="685800" y="3242880"/>
            <a:ext cx="2514600" cy="361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51rF63dQNcL">
            <a:hlinkClick r:id="rId9"/>
          </p:cNvPr>
          <p:cNvPicPr/>
          <p:nvPr/>
        </p:nvPicPr>
        <p:blipFill>
          <a:blip r:embed="rId10"/>
          <a:stretch/>
        </p:blipFill>
        <p:spPr>
          <a:xfrm rot="2184000">
            <a:off x="5866920" y="3504960"/>
            <a:ext cx="2979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cient Greek F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ts: Chicken, Fish, Pork,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etables: Asparagus, Artichokes, and Cab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: Olives, Plums, Gr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ds: Wheat and P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reen_olives_trikala_peppers_498"/>
          <p:cNvPicPr/>
          <p:nvPr/>
        </p:nvPicPr>
        <p:blipFill>
          <a:blip r:embed="rId1"/>
          <a:stretch/>
        </p:blipFill>
        <p:spPr>
          <a:xfrm>
            <a:off x="5105520" y="12193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pita%20bread"/>
          <p:cNvPicPr/>
          <p:nvPr/>
        </p:nvPicPr>
        <p:blipFill>
          <a:blip r:embed="rId2"/>
          <a:stretch/>
        </p:blipFill>
        <p:spPr>
          <a:xfrm>
            <a:off x="5105520" y="373392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cient Greek Thea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atre was formed in Athens, Greece between 600 and 20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2000 years before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oday we still consider plays created in Ancient Greece as the best drama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Achievements of the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Tragedies- art form of human suffering, which would amuse t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phocles: Oedipus the King and Anti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chylus: Achilles and The Per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cient Greek Thea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y168656958308953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6708094"/>
          <p:cNvPicPr/>
          <p:nvPr/>
        </p:nvPicPr>
        <p:blipFill>
          <a:blip r:embed="rId2"/>
          <a:stretch/>
        </p:blipFill>
        <p:spPr>
          <a:xfrm>
            <a:off x="4648320" y="1600200"/>
            <a:ext cx="405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on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Religious Festival held in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the God, Diony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onysus-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on for the best tragic play would be held a fest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wi_webwine_1"/>
          <p:cNvPicPr/>
          <p:nvPr/>
        </p:nvPicPr>
        <p:blipFill>
          <a:blip r:embed="rId1"/>
          <a:stretch/>
        </p:blipFill>
        <p:spPr>
          <a:xfrm>
            <a:off x="4952880" y="1600200"/>
            <a:ext cx="343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ks of Ancient Gr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21393"/>
          <p:cNvPicPr/>
          <p:nvPr/>
        </p:nvPicPr>
        <p:blipFill>
          <a:blip r:embed="rId1"/>
          <a:stretch/>
        </p:blipFill>
        <p:spPr>
          <a:xfrm>
            <a:off x="380880" y="1523880"/>
            <a:ext cx="4724640" cy="494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comedy-mask-thumb6434932"/>
          <p:cNvPicPr/>
          <p:nvPr/>
        </p:nvPicPr>
        <p:blipFill>
          <a:blip r:embed="rId2"/>
          <a:stretch/>
        </p:blipFill>
        <p:spPr>
          <a:xfrm>
            <a:off x="4724280" y="1523880"/>
            <a:ext cx="419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ks used in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dy and Trag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cork, wood and l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ors could play more than one part using a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edipus the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pho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about a man that his fate chosen for him already that lead him to his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edipus"/>
          <p:cNvPicPr/>
          <p:nvPr/>
        </p:nvPicPr>
        <p:blipFill>
          <a:blip r:embed="rId1"/>
          <a:stretch/>
        </p:blipFill>
        <p:spPr>
          <a:xfrm>
            <a:off x="4921200" y="1447920"/>
            <a:ext cx="3537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Oedip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orn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.497/6 BC</a:t>
            </a:r>
            <a:br>
              <a:rPr sz="3200"/>
            </a:b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0:16:44Z</dcterms:created>
  <dc:creator>Mark Kellum</dc:creator>
  <dc:description/>
  <dc:language>en-US</dc:language>
  <cp:lastModifiedBy> </cp:lastModifiedBy>
  <dcterms:modified xsi:type="dcterms:W3CDTF">2010-02-09T15:35:47Z</dcterms:modified>
  <cp:revision>3</cp:revision>
  <dc:subject/>
  <dc:title>Ancient Greek Theatre</dc:title>
</cp:coreProperties>
</file>